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82656"/>
        <c:axId val="32089963"/>
      </c:barChart>
      <c:catAx>
        <c:axId val="482826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89963"/>
        <c:crosses val="autoZero"/>
        <c:auto val="1"/>
        <c:lblAlgn val="ctr"/>
        <c:lblOffset val="100"/>
        <c:noMultiLvlLbl val="0"/>
      </c:catAx>
      <c:valAx>
        <c:axId val="32089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826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5DD-B2DD-4833-987A-7D5985CD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662-1FD0-46A9-B223-7939CE19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2F1-9043-4E20-8A57-22BDCF2E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521-C083-4175-B0EF-EB7B6B70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747-28E6-4180-A210-899726D9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0AA4-6B83-4E54-9901-7045A6AA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EB9-B145-4188-9929-ECC770CF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7FA-5835-420F-AE0B-6A85A5A7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9821-8BBC-4FD1-959A-B366132C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D980-5768-4C73-9C45-B5F3D56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F21-0D98-49B9-86A6-75948313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6C1-9A1C-426C-A54A-C0BD1185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D9D1B-0ADB-4508-905C-7038AC009A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