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79281"/>
        <c:axId val="40459127"/>
      </c:barChart>
      <c:catAx>
        <c:axId val="77379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59127"/>
        <c:crosses val="autoZero"/>
        <c:auto val="1"/>
        <c:lblAlgn val="ctr"/>
        <c:lblOffset val="100"/>
        <c:noMultiLvlLbl val="0"/>
      </c:catAx>
      <c:valAx>
        <c:axId val="40459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79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BE1-D336-44CC-A457-3F1EEA06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599-C553-4F23-BE8B-353E365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7A9-E9B5-43E4-8802-39525F0F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EBE-39A4-4C0C-942A-B19DF70C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248-E714-4A80-8771-53F4D95E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BC9-2C8B-431C-BEF3-2EA19AD7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6E2-245F-4A53-BFEE-AD1A0DDC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6E1-70BB-46CD-8953-A4AF1BC3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C82-184A-44D9-B316-FB1B39B1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7F7-EFF0-4E13-858C-0129B157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7B3-CF0B-4489-A6B4-5D94B45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F18-EFF9-475D-83A2-29D26EA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5F9A8-7E8D-4171-B5CB-E53ABF1060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