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24843"/>
        <c:axId val="92805249"/>
      </c:barChart>
      <c:catAx>
        <c:axId val="62424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05249"/>
        <c:crosses val="autoZero"/>
        <c:auto val="1"/>
        <c:lblAlgn val="ctr"/>
        <c:lblOffset val="100"/>
        <c:noMultiLvlLbl val="0"/>
      </c:catAx>
      <c:valAx>
        <c:axId val="928052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24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5D7-5EDB-47C7-92A4-E2FAB3E5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B15-7231-409F-B859-E7A3FD20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A90-426F-4677-963D-AC24E120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E823-0075-4789-A13B-C5B0628B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07A-1FD1-4576-95FB-E7F721BB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40B-C405-4CE4-BB59-1AA742F0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E6A-C702-489A-834E-17438405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F5E-8EBD-432A-BFA6-B0C67F59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FFA4-2E28-46E3-BFDC-E1315B2C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7C6-3D5F-45A6-9640-27EF7343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A0E-370B-44C3-B02A-FF609BF1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5CE-3371-417F-AB23-F0B95AB3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2B135-69B6-4AFB-9858-EF6AFC2AC7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