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0539"/>
        <c:axId val="43946455"/>
      </c:barChart>
      <c:catAx>
        <c:axId val="33600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46455"/>
        <c:crosses val="autoZero"/>
        <c:auto val="1"/>
        <c:lblAlgn val="ctr"/>
        <c:lblOffset val="100"/>
        <c:noMultiLvlLbl val="0"/>
      </c:catAx>
      <c:valAx>
        <c:axId val="43946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0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74A-67AB-4FED-A23D-80FCCAAC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093-62B2-480F-94EF-FFBB8BA9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A16-7BD6-4F59-A3A2-B42632A3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4A9-FAC1-4C69-BD3D-FF3E69B1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0AB-397A-48EE-A1B0-DA4B893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CC6-8EE4-48F9-9BFD-7862E47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682-F566-4E50-AB3D-6135949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FC3-8DC4-4BB8-950D-FC2805F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DE9-8837-450E-A72C-D808929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8D4-1DD5-4164-B00B-FE9366E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8B6-1D14-4D1B-9154-8FCA6C9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01C-2F40-45F9-8001-8CA756F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7C225-3F03-418C-8E62-167CED3A63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