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67011"/>
        <c:axId val="23237104"/>
      </c:barChart>
      <c:catAx>
        <c:axId val="80967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37104"/>
        <c:crosses val="autoZero"/>
        <c:auto val="1"/>
        <c:lblAlgn val="ctr"/>
        <c:lblOffset val="100"/>
        <c:noMultiLvlLbl val="0"/>
      </c:catAx>
      <c:valAx>
        <c:axId val="23237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67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74F-7A20-4ABC-BA22-211EC059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77B-FA5D-4C48-9143-4C992D17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563-DB77-4CA1-8C50-11DA4224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23B-6A51-42F3-9A56-D2EC0989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46B-4E8C-4D75-9398-3B4ABF6C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1DD-DE8D-4844-BE68-B296EA8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8E1-6DCF-4E57-A7D2-745D2AC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320-59F7-46AB-A85C-4729CAE8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AD6-E04B-405B-A5B8-F2974528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862-61FE-4023-AB1F-475B5283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D3F-446A-45E3-853A-E83B18A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A62-F95E-47C9-B3B6-78ED1DC6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BA558-D6DD-4DC5-8815-D3488F8F70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