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66400"/>
        <c:axId val="80870747"/>
      </c:barChart>
      <c:catAx>
        <c:axId val="84866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70747"/>
        <c:crosses val="autoZero"/>
        <c:auto val="1"/>
        <c:lblAlgn val="ctr"/>
        <c:lblOffset val="100"/>
        <c:noMultiLvlLbl val="0"/>
      </c:catAx>
      <c:valAx>
        <c:axId val="80870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66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AB0-6CB2-410D-B26D-305324D0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648D-A7AF-48BC-9C0C-109439C2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5AA-D2B8-43D3-80A2-57F2F711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19C-AC82-42E4-9322-2D82AE22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871-BE37-491E-BE46-0F1127B9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C04-8BF6-46F7-BEFE-F167E08D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DD6-4B5A-42C7-809B-FCB50104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94D-CE2E-4734-BD68-69E28FA6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0F5-49F3-4CFC-9B58-B0B49031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076-CE19-4D6E-BF99-A55739A3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31D-4031-4BC3-B6C5-A1D6424D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993-2A18-4FA9-A5B2-F64C00EC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D5B5B-E7D3-4EF8-A0C6-050C021158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