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6907"/>
        <c:axId val="24609025"/>
      </c:barChart>
      <c:catAx>
        <c:axId val="5676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09025"/>
        <c:crosses val="autoZero"/>
        <c:auto val="1"/>
        <c:lblAlgn val="ctr"/>
        <c:lblOffset val="100"/>
        <c:noMultiLvlLbl val="0"/>
      </c:catAx>
      <c:valAx>
        <c:axId val="24609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6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D6A-6C7C-4ACB-A9CE-FC9C0A0C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1BE-8661-46C2-AE69-3E27DA46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4E5-A069-4212-B6A5-40F00E7F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021-A8C8-47D5-BC17-B2267C58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F39-F232-4FF1-A51C-BF9DD000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06F-9A03-4EEA-8348-BC487FB7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139-EAD2-425D-88B1-980389E1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AC8-9DC1-46C7-A703-FBBD5F8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4F3-CBE9-4CC9-9060-45278FCB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909-57BE-4A3E-A0BA-E7DFE432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15C-574B-45F1-B934-AB04037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A6B-0BC0-474E-9258-E85A725C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0ACEC-85A3-4433-B0E9-AAFE4D4B5A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