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45918"/>
        <c:axId val="50204307"/>
      </c:barChart>
      <c:catAx>
        <c:axId val="47845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04307"/>
        <c:crosses val="autoZero"/>
        <c:auto val="1"/>
        <c:lblAlgn val="ctr"/>
        <c:lblOffset val="100"/>
        <c:noMultiLvlLbl val="0"/>
      </c:catAx>
      <c:valAx>
        <c:axId val="50204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45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A48-A6D2-43A4-B97B-97752342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328-1822-4D2E-9073-F69D3BC1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89B-2632-4C3E-B1D6-B8CDED56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1AA-C749-4774-A39A-38B509A5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ADD-E928-401F-8A6D-0C41C00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8E3-2CE0-4734-BE08-73E0DE7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044-E469-489F-9C09-30841311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159-EFC8-4D9D-984F-DC53EC5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109-2DE6-47A5-8370-08C14AB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3A4-C7C9-4959-A317-4790A4E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ABE-E169-4D23-A6E1-B054EFCF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C41-924E-4DC2-AA87-55C9857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6C7A9-2A17-4821-B3F4-C32C20D9A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