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75619"/>
        <c:axId val="51862249"/>
      </c:barChart>
      <c:catAx>
        <c:axId val="17075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2249"/>
        <c:crosses val="autoZero"/>
        <c:auto val="1"/>
        <c:lblAlgn val="ctr"/>
        <c:lblOffset val="100"/>
        <c:noMultiLvlLbl val="0"/>
      </c:catAx>
      <c:valAx>
        <c:axId val="51862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75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DFC-126D-49E7-81A8-A7D8A209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1F9-5AA3-441A-8623-F80A2544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5C5-D597-4DF5-A609-4A30886D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A24-6A62-4DFA-A36E-8D03E1BB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E59-0C56-43AD-9257-D78A6B2F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E96-63DD-4E6C-B32E-7D081A85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628-311D-4CE9-84AE-74C9D643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D8A-CCC0-43C6-B854-1908082E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9E9-3B2B-4AB8-8661-B258EDED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3E2-26E0-4E7D-8707-2996BD0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458-AE92-46D2-96EC-280C1875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C3C-709D-43B8-99D1-99D1A96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A3AAF-0858-4859-A003-C86D5E3DAD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