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79429"/>
        <c:axId val="34986365"/>
      </c:barChart>
      <c:catAx>
        <c:axId val="72079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86365"/>
        <c:crosses val="autoZero"/>
        <c:auto val="1"/>
        <c:lblAlgn val="ctr"/>
        <c:lblOffset val="100"/>
        <c:noMultiLvlLbl val="0"/>
      </c:catAx>
      <c:valAx>
        <c:axId val="34986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79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6BA-479A-454E-8C33-8F326047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CAB-E090-422C-BEAF-7EA1082F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53A-EA3A-4473-AFA1-9CF7BB68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B95-3A3F-4F93-92C6-F97EA39F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64B-588D-4380-A347-24D725AF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3F7-E8B0-42B9-8C05-884F3D5D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62A-0D69-459B-9896-C1F8EC84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B28-FFCE-4381-90B1-25E4B395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E2D-435C-4F3B-AB0F-8BD2C436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EF5-627F-410F-A4D5-26772D76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7FE-C341-4109-98F6-5445C23D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F64-CCD8-44B0-A652-0CBA14BC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4193F-5495-4315-8380-1FCD811105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