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09011"/>
        <c:axId val="13959319"/>
      </c:barChart>
      <c:catAx>
        <c:axId val="55209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59319"/>
        <c:crosses val="autoZero"/>
        <c:auto val="1"/>
        <c:lblAlgn val="ctr"/>
        <c:lblOffset val="100"/>
        <c:noMultiLvlLbl val="0"/>
      </c:catAx>
      <c:valAx>
        <c:axId val="13959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09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670-970B-4FB4-8A3B-9A4D3798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F61-3A07-46A9-AA74-A25AD45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DB1-A0AC-4BA7-92DB-04B4DCEA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A89-084D-4A9B-998A-26E9C67E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CC5-8646-419C-9F3E-D9CC79B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7B1-0CAD-435C-ADD5-2F3B4F3A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0E4-990C-4FF3-BDF4-766FCC3A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D23-1F6A-40E3-96DB-70CE708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894-C88A-4C8F-844C-D351C83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557-5F9F-4043-B0A9-C2C7AE5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EC0-8AF0-4B19-BD20-676962F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872-95A4-4C4F-B179-0B63817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92EF5-5218-4E8E-8674-DADBE81F8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