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54413"/>
        <c:axId val="27782725"/>
      </c:barChart>
      <c:catAx>
        <c:axId val="75354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82725"/>
        <c:crosses val="autoZero"/>
        <c:auto val="1"/>
        <c:lblAlgn val="ctr"/>
        <c:lblOffset val="100"/>
        <c:noMultiLvlLbl val="0"/>
      </c:catAx>
      <c:valAx>
        <c:axId val="27782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54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84D-5D51-463A-A2EF-9185BCF0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F37-12D7-4EE5-B611-5728DD60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013-AC79-4EBD-B5E1-EF33DD06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B36-674B-4F47-A0AD-124F1D76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53C-F525-43E7-A388-4186C806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C28-5695-4953-AC06-DFE5874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389-9B2E-4150-89E0-617D46F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FDD-D034-4129-A289-8933DCE0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F20-5331-48D6-991F-C16EC208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6E6-B64B-4820-AD5A-F4323EB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56A-580F-4E5A-BCD3-90B111B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C1E-74E3-418C-8F56-42EBCF5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41655-ED4A-4B48-8442-EFEC156A60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