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3314"/>
        <c:axId val="93845767"/>
      </c:barChart>
      <c:catAx>
        <c:axId val="31153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5767"/>
        <c:crosses val="autoZero"/>
        <c:auto val="1"/>
        <c:lblAlgn val="ctr"/>
        <c:lblOffset val="100"/>
        <c:noMultiLvlLbl val="0"/>
      </c:catAx>
      <c:valAx>
        <c:axId val="93845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3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DE7-C781-4503-9B1E-4C8F91C3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FCC-346E-4BC8-BEE4-87AE38A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6E0-DF0D-43D3-A000-5C757B5E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C31-7E00-4B30-88D3-41906FD1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898-1ED2-4F7E-A14D-1CEACEF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D67-3D3A-4B09-AC12-8EECD05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CC2-9C39-4B37-A44B-E207C6C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FCA-1F1E-4A7B-ADAA-3FAAA0AD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E7B-271D-4A72-B5B5-8868BF5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E68-7670-4059-AE71-CF5AF1A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FD3-293C-4C08-9ACC-01F4F25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49C-FF88-4378-B87A-BE10038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44A23-D7F7-4C22-B587-09AB8EED4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