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62771"/>
        <c:axId val="26514169"/>
      </c:barChart>
      <c:catAx>
        <c:axId val="42062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14169"/>
        <c:crosses val="autoZero"/>
        <c:auto val="1"/>
        <c:lblAlgn val="ctr"/>
        <c:lblOffset val="100"/>
        <c:noMultiLvlLbl val="0"/>
      </c:catAx>
      <c:valAx>
        <c:axId val="26514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62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4A8-2E42-4757-B4B1-CF6D879D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5FC1-2A52-4D41-8252-3A419094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02D-EEEC-4FFF-BC7C-58E0EF79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B47-136B-49BD-A6B6-8D625216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A97-82FA-4F31-B544-0D7FE46A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6A7-EC04-4DF0-BD80-DE971266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6E1-6D42-4D0A-87E2-995E1529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8A9-563C-49E5-9248-FDCCB6CC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5B5-4216-4873-8855-DA01C971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9EF-E631-464F-8683-4DC332D1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E31-06D8-4B61-8CCA-CAF486F6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648-84E2-4E56-B898-30B9E5D9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D66EB-975B-4088-83A5-4F65E3A816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