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74448"/>
        <c:axId val="59335496"/>
      </c:barChart>
      <c:catAx>
        <c:axId val="19174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35496"/>
        <c:crosses val="autoZero"/>
        <c:auto val="1"/>
        <c:lblAlgn val="ctr"/>
        <c:lblOffset val="100"/>
        <c:noMultiLvlLbl val="0"/>
      </c:catAx>
      <c:valAx>
        <c:axId val="59335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74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EA7-AA92-414B-AF5B-A18D14A4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D36-9EE8-4655-990A-09A5CCE1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284-137C-4863-9E56-B2BA6ACC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3E4-13C1-4A5E-A92E-1AC369E5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A4A-D1CB-4F7B-85EF-A0CBBC42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BFE-C241-40DB-AC3A-FBC07667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84D-4A1F-4D84-907C-39455AD8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20C-DD3C-49AF-97D3-647E099C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945-2D3C-4A1D-8FC0-FD904A4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954-386B-4805-8C32-7E946819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0CD-8268-4E73-8491-70C89771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F0F-574B-4E2D-8401-EB139103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7CACD-FF81-49A3-B089-2B81CA9B23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