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58826"/>
        <c:axId val="85680050"/>
      </c:barChart>
      <c:catAx>
        <c:axId val="75058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80050"/>
        <c:crosses val="autoZero"/>
        <c:auto val="1"/>
        <c:lblAlgn val="ctr"/>
        <c:lblOffset val="100"/>
        <c:noMultiLvlLbl val="0"/>
      </c:catAx>
      <c:valAx>
        <c:axId val="85680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58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90C-AAAD-4E54-AFFB-7D2569AA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653-0303-4206-A3AE-3C17226D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A33-08B9-4D26-A5D2-FD18ED61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51A-3BD3-441E-80F0-AA80C865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438-9858-4A2B-AF40-FB36A4CF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73E-D789-48A3-895D-C84D3AEA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731-6671-43A3-BABB-BA3417A2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80B-46F4-4E2D-BFA2-DCA2D751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9BA-8DBC-4765-8DBE-06225D2A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401-EC7D-4D13-9C6D-A2F8B24E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543-7753-449E-9D15-8231D00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3FB-9318-45ED-9959-48D74597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C51D4-38C5-4764-B48C-046071C404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