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51090"/>
        <c:axId val="46364571"/>
      </c:barChart>
      <c:catAx>
        <c:axId val="26651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4571"/>
        <c:crosses val="autoZero"/>
        <c:auto val="1"/>
        <c:lblAlgn val="ctr"/>
        <c:lblOffset val="100"/>
        <c:noMultiLvlLbl val="0"/>
      </c:catAx>
      <c:valAx>
        <c:axId val="46364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51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F3A-1AB3-4682-9AD9-F2365D25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60B-A4C9-46B9-B2CC-8C759153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0A5-6F74-44E0-98A7-40A6FB71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27F-3062-478A-9A50-8F2836E2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E3E-C277-4C40-8DAF-173CCAA7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A60-51E3-4AF0-B2F5-8B4C7AE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57F-AA4C-4191-B16F-51B6F19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931-FBA8-410B-9BDF-7BB1211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DE0-3F04-45AB-902F-F208DF36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ED0-803F-4617-8E67-772792F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4EF-A8D8-4AEA-8FDE-2E06AE6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670-649C-42F1-A72D-2541774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212B4-9015-4E8C-B726-C00EA8C6E6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