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06241"/>
        <c:axId val="94437599"/>
      </c:barChart>
      <c:catAx>
        <c:axId val="95106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37599"/>
        <c:crosses val="autoZero"/>
        <c:auto val="1"/>
        <c:lblAlgn val="ctr"/>
        <c:lblOffset val="100"/>
        <c:noMultiLvlLbl val="0"/>
      </c:catAx>
      <c:valAx>
        <c:axId val="94437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06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46F-AEF7-4DCD-8890-41A0B4D4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1EE-4B3F-4FB7-9FAC-E6821C2D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C1F-214B-4463-8526-46A28D09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346-055B-4D2E-9253-2C82BE9A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707-108C-4CD5-8D99-68B64530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AC4-5479-47F1-9516-4C4DE388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740-EFAC-408D-B89E-5CB78938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AD1-DBD5-4AE0-AEB3-C212684B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A72-8DF8-4181-8AF0-D68B275C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5D4-8F2C-4333-91ED-D56B88E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372-6E2D-4DD5-A8C3-F6B39D21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F61-577B-4449-8529-3F1D7F9C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80E6B-7BA8-4565-9F0A-883E3FBCCB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