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0736730"/>
        <c:axId val="99039701"/>
      </c:barChart>
      <c:catAx>
        <c:axId val="1073673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039701"/>
        <c:crosses val="autoZero"/>
        <c:auto val="1"/>
        <c:lblAlgn val="ctr"/>
        <c:lblOffset val="100"/>
        <c:noMultiLvlLbl val="0"/>
      </c:catAx>
      <c:valAx>
        <c:axId val="9903970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73673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DDC7D-BF4B-4375-A375-16A299178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65E55-AB1E-4FD5-96F3-63ED28F12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93268-9F49-4C46-BC61-F4A4A930C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5886C-6817-48B8-A7F0-110EE5004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DA340-6D46-4D41-9399-2B4E77891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A15FA-2ED6-4023-8D24-304BD0824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48C97-8F5A-428C-9201-BA7C02D1F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4A1DA-2D28-4A47-B77A-FAE263D6F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638E1-D501-46B5-B58D-BEC5EEE99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E573B-140B-48B6-A831-351155CB8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74FCC-F956-4EB5-8529-59FFE49C2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B4121-D500-40D7-A630-DFCEA5D49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6F4F73-3FED-4F6E-A2D3-CF5FB2303A8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