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05312"/>
        <c:axId val="47095135"/>
      </c:barChart>
      <c:catAx>
        <c:axId val="76805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95135"/>
        <c:crosses val="autoZero"/>
        <c:auto val="1"/>
        <c:lblAlgn val="ctr"/>
        <c:lblOffset val="100"/>
        <c:noMultiLvlLbl val="0"/>
      </c:catAx>
      <c:valAx>
        <c:axId val="47095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05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75C-BD85-4D16-BD5F-E0A16636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333-6417-4BE6-8EBD-EEF194A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D97-0A0A-4B3F-B30A-0BDAD93A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4B7-9702-4721-9FA9-5F704F8A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56D-2F07-4DD6-99B3-FEB91E7A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FCA-28F4-4C23-9D92-AB2E5C44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588-7CB8-49A4-997C-3D19996A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E81-1BD1-497E-ACFC-8BF8C7F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5AF-169C-47C3-AA44-D6C3E057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828-E3B2-4B08-B91D-F5F3AE4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5E9-D15C-4198-83EA-241DCC5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5D6-7366-4A9C-B869-3485DD4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6E3CB-2748-411B-AF30-6A9D7A031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