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65279"/>
        <c:axId val="90343615"/>
      </c:barChart>
      <c:catAx>
        <c:axId val="83865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3615"/>
        <c:crosses val="autoZero"/>
        <c:auto val="1"/>
        <c:lblAlgn val="ctr"/>
        <c:lblOffset val="100"/>
        <c:noMultiLvlLbl val="0"/>
      </c:catAx>
      <c:valAx>
        <c:axId val="90343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65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39D-ADBF-4D9A-A8E2-ACC2AEB2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BC0-2CF1-4B61-BF08-CFD2542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311-2514-44F9-8C03-EC24AD78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343-56F0-429A-BA16-5A09DFA4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6F3-BF2F-4348-A0E3-A7D757B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202-54B8-4024-BBD0-BC72916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156-553C-4147-B149-FC891BE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6AB-1FF8-4A22-9A4C-9924709A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022-DC70-4739-8922-E25FAB14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A7D-1660-4169-8DB9-4669DF10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ED3-CC61-48B5-86F4-3607C32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F4E-D7A2-464D-A8BC-323AC63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F5A8F-EA46-46D8-91C7-98CE9FCC6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