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0813611"/>
        <c:axId val="25166171"/>
      </c:barChart>
      <c:catAx>
        <c:axId val="308136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166171"/>
        <c:crosses val="autoZero"/>
        <c:auto val="1"/>
        <c:lblAlgn val="ctr"/>
        <c:lblOffset val="100"/>
        <c:noMultiLvlLbl val="0"/>
      </c:catAx>
      <c:valAx>
        <c:axId val="25166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136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0F8-1470-492B-A53A-6DCEE74720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C0C9-C052-4088-A850-E2C1614D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9838-C02E-45EE-BB41-79F253C9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1921-65C7-4743-AF0B-BF09A0434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D060-5302-4319-B2F7-26B5CE01D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137F7-8F76-4847-8B25-1A49C3778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06EDA-500C-4A92-8DD2-D69EC0DD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9F91-7A60-41EE-9AF1-5DFDF7637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E9F2-A592-4E89-8C48-586DD1981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C2BE-1A99-4A05-89AE-E54AB83A1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1E615-5D83-4476-BAC6-0AD60B206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00F95-52F6-49F7-B54D-E9AAB6DED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F0EA1-8E20-466F-9123-7F907FDFEB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