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098994"/>
        <c:axId val="30363598"/>
      </c:barChart>
      <c:catAx>
        <c:axId val="990989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363598"/>
        <c:crosses val="autoZero"/>
        <c:auto val="1"/>
        <c:lblAlgn val="ctr"/>
        <c:lblOffset val="100"/>
        <c:noMultiLvlLbl val="0"/>
      </c:catAx>
      <c:valAx>
        <c:axId val="303635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0989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69EA-A1D6-49FF-AE59-70536B2C8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68A8-AC98-49DC-944E-C57E7521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85AE-9EDF-4290-9FF5-B10194483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BEEF-7814-45A9-B23E-709F3096D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F2E8-F4C7-46B6-8283-68DA88E6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52CA-0196-48E0-8AE4-8D288BFA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4E07-8D53-46DF-9384-3256DF93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1C31-F560-456A-A73C-3F6DFF40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83D3-4AE8-4AC9-BFBB-1D1A3C17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415A-A3FC-4413-849C-30347B1F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8B66-A276-47DA-96AB-0D2E8FAB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10AB-7761-41E8-9EC4-B3F93CDD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8C9351-1204-40EF-8BBB-835C38BBDC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