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1955"/>
        <c:axId val="4502398"/>
      </c:barChart>
      <c:catAx>
        <c:axId val="6611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2398"/>
        <c:crosses val="autoZero"/>
        <c:auto val="1"/>
        <c:lblAlgn val="ctr"/>
        <c:lblOffset val="100"/>
        <c:noMultiLvlLbl val="0"/>
      </c:catAx>
      <c:valAx>
        <c:axId val="4502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F98-446B-470D-9214-48CBA1F2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3A3-1113-440A-AD06-EB8B469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55B-A138-4CDA-AF68-3FCD46D4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0B0-89AC-49E2-BCC3-8D823D2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F1B-C6D7-4FE6-A8E6-BE4BBC2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FD8-392C-44E1-A8AC-2A6544D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C2A-A66B-4DF3-A54F-F8BEEDB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A5D-9428-4744-AE23-0F7FDEB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776-7757-4B3A-BBB3-601957A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59C-3D38-4857-8FB7-2634AEB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00D-47E4-4ADA-8B61-7324255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2F1-034B-407F-B632-6497A05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72779-C320-45C6-8D62-0677D1BE6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