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627371"/>
        <c:axId val="86918950"/>
      </c:barChart>
      <c:catAx>
        <c:axId val="156273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18950"/>
        <c:crosses val="autoZero"/>
        <c:auto val="1"/>
        <c:lblAlgn val="ctr"/>
        <c:lblOffset val="100"/>
        <c:noMultiLvlLbl val="0"/>
      </c:catAx>
      <c:valAx>
        <c:axId val="86918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273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153-77A3-4F80-8DA7-82D5D992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E1E8-5251-4075-8761-289E32C0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0543-405F-4103-9D1E-4BEA6004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7C8E-F9BC-4BD9-956B-C8F955AE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488-C464-43D9-9BED-21D25457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6F8E-0B14-4A09-ACD5-665A4591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60BB-A424-465D-9BA0-2E768DB6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DCA-6506-4D03-B3DE-44654C57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A70-1915-46F2-A248-5F92D370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F63A-6D43-4339-8228-F2A906B2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25B4-E2C6-4A62-B0CC-548EA90B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E562-6108-42E2-BB80-20DC620F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5410F-C925-4F51-8507-833999F78B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