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148446"/>
        <c:axId val="34055320"/>
      </c:barChart>
      <c:catAx>
        <c:axId val="77148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55320"/>
        <c:crosses val="autoZero"/>
        <c:auto val="1"/>
        <c:lblAlgn val="ctr"/>
        <c:lblOffset val="100"/>
        <c:noMultiLvlLbl val="0"/>
      </c:catAx>
      <c:valAx>
        <c:axId val="34055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48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6B4-3B16-4310-805B-32DF6A93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032E-0DCF-4275-B4EB-0F461100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D92-62C1-432F-A03A-16DBFF03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E2C-D192-4CC8-ABAC-B14B83C5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092-434C-44FF-859E-1EE56D75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E3D-5301-414C-B444-05EA7DC1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BA87-182B-47DA-804F-3D3DCB9D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BD98-7EEE-4C7D-8420-DE53DDA4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32F-A5E0-4A5A-BD30-C5FD434F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A9C-9533-4331-91B1-466F5002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D93-CBAE-4E08-9A2E-F98CE029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0F4C-6277-4946-B30A-0290A039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09E3C-1156-4B94-95B5-6750963BC9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