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026965"/>
        <c:axId val="7858296"/>
      </c:barChart>
      <c:catAx>
        <c:axId val="670269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58296"/>
        <c:crosses val="autoZero"/>
        <c:auto val="1"/>
        <c:lblAlgn val="ctr"/>
        <c:lblOffset val="100"/>
        <c:noMultiLvlLbl val="0"/>
      </c:catAx>
      <c:valAx>
        <c:axId val="78582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0269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F503-6D2E-4247-93B6-778488332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5AFE-D4F8-476B-B72E-DB8CFCF3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3AB3-56B8-48FB-8B88-9EADFC553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3B43-CB71-4CF7-BCC8-F1B5FBD32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7F2E-DB7E-406D-AB30-DD6889AC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7B40-F563-47E7-B0AB-7199279C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5176-2180-4A19-A56B-289907DF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0442-A43F-4FF8-BE16-9D4F7533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7931-D539-451F-B3C5-97F85FA3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0099-2AA5-4663-8A88-7FFF2CFC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6949-2826-4518-B416-39901EE5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1453-DD29-41A7-8BFA-F74F5F5F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A88059-52F0-4660-AFCE-F2D49E050C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