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2129347"/>
        <c:axId val="40648820"/>
      </c:barChart>
      <c:catAx>
        <c:axId val="2212934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0648820"/>
        <c:crosses val="autoZero"/>
        <c:auto val="1"/>
        <c:lblAlgn val="ctr"/>
        <c:lblOffset val="100"/>
        <c:noMultiLvlLbl val="0"/>
      </c:catAx>
      <c:valAx>
        <c:axId val="4064882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12934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F4800-07C6-4872-ADDE-9C733FF21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E5A94-FF3B-47DE-BD8D-41146407D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43D66-9D7A-4006-82AB-B4367D873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571D4-983C-4A79-B7EB-14E7E35E1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54D69-C6D5-4BA5-B0BD-F51799E8E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48188-9546-45D9-9C72-17387AA8D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BEC82-1A2A-4EB1-9637-F8679CB3F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AC59F-B4C1-4FEB-B92A-65E651CFB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72B5C-557E-4E0F-B417-A36859D75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985AD-E212-4784-9938-51D1A6BF9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423C5-3124-4765-924C-93F946A8C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B2FD9-7619-4F90-8965-4ECA64A9D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07C89F-8FF7-45DF-9260-0AC8C1DB417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